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0CC2-51DA-4A60-9F33-7BACC7FF8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E4B-9B93-4795-B4C3-BFAF710F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9F0-17CB-4FEB-8F99-D0D94144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552-18EE-4A94-90DC-B28B1DE6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77A18-BC04-4F88-BEF0-F043D325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99CD-9757-47D7-8998-20319040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5E06-B784-4CEE-A2F7-A6A494B5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7CC9-E136-4EFA-AE9F-59B76B01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0725-AD55-4840-9514-C0041EF9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C64A-18FA-4B06-866E-5490BDF6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7F80-3DBE-41A7-9B92-AFE97EF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379-6B88-46D7-9A5C-8CDE1AD1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5BA4-D79D-400A-8654-F52470C9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1391-CCCF-4C35-976F-12A0BC02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C36-3FE5-48C5-81E5-AE26FE43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EE88-05C2-4B3F-B53A-47C53BF1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66D9-B26C-46C7-BD31-54AD50FA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E19-7D20-4AFF-A7AF-9F25A0FF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9F4-67D8-4EA2-A514-367201A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089-EAD4-42FD-92F1-130DF952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9D6-F65E-4D4A-B7A6-ED1451FC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9F49-7BA4-4BEF-A988-DE2BB5D2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57A-7919-474E-8E6F-E167B58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AE1-AA2C-4E94-81EA-37F3421A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797A-24F4-48B4-A66B-B2F5DD3B708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EA39-1E33-4A03-89FB-82C1CFFC8D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17.xml"/><Relationship Id="rId4" Type="http://schemas.openxmlformats.org/officeDocument/2006/relationships/slide" Target="slide2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at Expect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y Charles Dicke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MTSD</cp:lastModifiedBy>
  <dcterms:modified xsi:type="dcterms:W3CDTF">2009-03-12T15:57:56Z</dcterms:modified>
  <cp:revision>28</cp:revision>
  <dc:subject/>
  <dc:title>Are You Smarter  Than a 5th Grader?</dc:title>
</cp:coreProperties>
</file>